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6.gif" ContentType="image/gif"/>
  <Override PartName="/ppt/media/image20.jpeg" ContentType="image/jpeg"/>
  <Override PartName="/ppt/media/image23.jpeg" ContentType="image/jpeg"/>
  <Override PartName="/ppt/media/image25.png" ContentType="image/png"/>
  <Override PartName="/ppt/media/image31.jpeg" ContentType="image/jpeg"/>
  <Override PartName="/ppt/media/image2.png" ContentType="image/png"/>
  <Override PartName="/ppt/media/apert2.wav" ContentType="audio/x-wav"/>
  <Override PartName="/ppt/media/image5.png" ContentType="image/png"/>
  <Override PartName="/ppt/media/image10.jpeg" ContentType="image/jpeg"/>
  <Override PartName="/ppt/media/image30.png" ContentType="image/png"/>
  <Override PartName="/ppt/media/image4.jpeg" ContentType="image/jpeg"/>
  <Override PartName="/ppt/media/image8.wmf" ContentType="image/x-wmf"/>
  <Override PartName="/ppt/media/image12.jpeg" ContentType="image/jpeg"/>
  <Override PartName="/ppt/media/image13.png" ContentType="image/png"/>
  <Override PartName="/ppt/media/image7.gif" ContentType="image/gif"/>
  <Override PartName="/ppt/media/image29.gif" ContentType="image/gif"/>
  <Override PartName="/ppt/media/image3.png" ContentType="image/png"/>
  <Override PartName="/ppt/media/image11.png" ContentType="image/png"/>
  <Override PartName="/ppt/media/image9.jpeg" ContentType="image/jpeg"/>
  <Override PartName="/ppt/media/image1.jpeg" ContentType="image/jpeg"/>
  <Override PartName="/ppt/media/image22.jpeg" ContentType="image/jpeg"/>
  <Override PartName="/ppt/media/image27.gif" ContentType="image/gif"/>
  <Override PartName="/ppt/media/image28.gif" ContentType="image/gif"/>
  <Override PartName="/ppt/media/image15.png" ContentType="image/png"/>
  <Override PartName="/ppt/media/image24.jpeg" ContentType="image/jpeg"/>
  <Override PartName="/ppt/media/image16.png" ContentType="image/png"/>
  <Override PartName="/ppt/media/image17.png" ContentType="image/png"/>
  <Override PartName="/ppt/media/image18.png" ContentType="image/png"/>
  <Override PartName="/ppt/media/image14.jpeg" ContentType="image/jpeg"/>
  <Override PartName="/ppt/media/image19.gif" ContentType="image/gif"/>
  <Override PartName="/ppt/media/image6.gif" ContentType="image/gif"/>
  <Override PartName="/ppt/media/image2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5040" cy="124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86E6-370D-4123-AAEE-8058E56A4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FD32-00EA-4269-B0D2-8E3FE4CF0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BF68-F6CD-4A19-993C-AB08F8E6E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D257-5009-41DC-AAD8-C8C86693B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CBDDC-5C91-4610-8898-F3B37C3B2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0CDD5-0F8A-4C44-B426-9C3EE5ECE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4F6C3-A284-4EE6-B874-E704C75DF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F9278-95AD-4E3D-8164-76BACB1F5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520DB-4DDE-48CC-A5A7-7F677B7A3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BF062-3895-4B72-9DF8-1ACD079AA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A0D62-72BA-474D-A08A-4078425B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4687-2280-432B-80F2-362804889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1567A-4241-4E77-BA34-27EDE9B2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6D6C2-CE89-4309-9FAB-320B49E7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5056A-6008-498D-8A1E-ABEA379D4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AFDE4-F096-4001-8D0B-8A66396D6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F3D3E-C501-43EC-8788-FB429E410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19F46-AD17-4850-9FDB-C9AEEC325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12E22-DFB9-4D47-B78D-7CBF1466A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6FCC6-55BF-4CF2-98F8-2FFD75523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95CA1-D5BD-4392-8F8F-B785C6E10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2BB21-1A34-4785-9106-9649B2618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48F3-9A0F-442F-AAD9-98AAC77B4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6BDDF-2D6E-4887-9D5D-BFAC35EB5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00CCF-AC78-46B2-9F04-326BB605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9B308-0768-461F-AEAB-3E72C2EB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9B552-014E-4D88-B58B-2463FABE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A5DE4-5015-4D45-8533-59C81A8B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04D1D-EE9E-48F6-9A5C-C6B4FBFAC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CBBAD-E3ED-4156-B94D-66B9034F1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38CDD-BC1B-42C9-B5C3-C7FFB661F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087DE-CDEB-4647-AD73-01926FC56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E41D0-4846-486E-ABF3-E864B8204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6C67-37DE-4C69-93C0-D1F4F302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ACA8B-DC64-4496-9B9F-0F97CF1EC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459AB-1F5C-45CE-A9C1-6C3245A4A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893D9-2D93-47A8-97FC-04A51153F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A0AA6-7EFB-43D9-8588-3BF871B6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CA4B4-9AC2-49C5-A06C-2CE1CA87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8B057-AC24-4204-B569-2940E6DC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233E4-B1B0-4885-859C-B39BE6CAA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FA562-3092-4168-B951-3231DAA67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5A097-5245-4542-A516-29447AAAC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1288-BFE3-46A9-92A7-B98F70127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124C-53F2-42C2-AF42-2727FE0E8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3DFB-864E-4C20-BE6E-4CC634EC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2144-2AC4-48C9-8900-5B0316F5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4A9B-E3ED-413F-9D8B-0301BAF6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45c75"/>
                </a:solidFill>
                <a:latin typeface="Arial"/>
                <a:ea typeface="DejaVu San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E4DADC9-3C2C-4D02-9A21-24D82FF6B795}" type="slidenum">
              <a:rPr b="0" lang="en-GB" sz="1200" spc="-1" strike="noStrike">
                <a:solidFill>
                  <a:srgbClr val="045c75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d1eaee"/>
                </a:solidFill>
                <a:latin typeface="Arial"/>
                <a:ea typeface="DejaVu San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6BE367A-92C8-4CDE-8109-59E54D082F80}" type="slidenum">
              <a:rPr b="0" lang="en-GB" sz="1200" spc="-1" strike="noStrike">
                <a:solidFill>
                  <a:srgbClr val="d1eaee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d1eaee"/>
                </a:solidFill>
                <a:latin typeface="Arial"/>
                <a:ea typeface="DejaVu San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2D4D0F3-C913-4AF2-99DD-78727F3D2BDF}" type="slidenum">
              <a:rPr b="0" lang="en-GB" sz="1200" spc="-1" strike="noStrike">
                <a:solidFill>
                  <a:srgbClr val="d1eaee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45c75"/>
                </a:solidFill>
                <a:latin typeface="Arial"/>
                <a:ea typeface="DejaVu San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B697118-D7F7-4B2E-84DE-1A84E01D88BC}" type="slidenum">
              <a:rPr b="0" lang="en-GB" sz="1200" spc="-1" strike="noStrike">
                <a:solidFill>
                  <a:srgbClr val="045c75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audio" Target="../media/apert2.wav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gif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e2d700"/>
                </a:solidFill>
                <a:latin typeface="Times New Roman"/>
              </a:rPr>
              <a:t>THE</a:t>
            </a:r>
            <a:r>
              <a:rPr b="1" lang="en-US" sz="5000" spc="-1" strike="noStrike">
                <a:solidFill>
                  <a:srgbClr val="e2d700"/>
                </a:solidFill>
                <a:latin typeface="Calibri"/>
              </a:rPr>
              <a:t> </a:t>
            </a:r>
            <a:r>
              <a:rPr b="1" lang="en-US" sz="5000" spc="-1" strike="noStrike">
                <a:solidFill>
                  <a:srgbClr val="e2d700"/>
                </a:solidFill>
                <a:latin typeface="Times New Roman"/>
              </a:rPr>
              <a:t>WATER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-</a:t>
            </a:r>
            <a:r>
              <a:rPr b="1" lang="en-US" sz="4800" spc="-1" strike="noStrike">
                <a:solidFill>
                  <a:srgbClr val="e2d700"/>
                </a:solidFill>
                <a:latin typeface="Times New Roman"/>
              </a:rPr>
              <a:t>ENVIRONMENT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 rot="20922600">
            <a:off x="785880" y="3112560"/>
            <a:ext cx="3174840" cy="31244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585000">
            <a:off x="4731840" y="3265560"/>
            <a:ext cx="360360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4617b"/>
                </a:solidFill>
                <a:latin typeface="Calibri"/>
              </a:rPr>
              <a:t>THE LAKE IN DOJRAN IS CURATIVE 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3" name="Picture 3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-10008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LGAE CURE THE PEOP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9a956"/>
                </a:solidFill>
                <a:latin typeface="Times New Roman"/>
              </a:rPr>
              <a:t>ANIMALS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227" name="Picture 3" descr=""/>
          <p:cNvPicPr/>
          <p:nvPr/>
        </p:nvPicPr>
        <p:blipFill>
          <a:blip r:embed="rId1"/>
          <a:stretch/>
        </p:blipFill>
        <p:spPr>
          <a:xfrm flipH="1" rot="10057800">
            <a:off x="393480" y="2286000"/>
            <a:ext cx="4030560" cy="3446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DELFIN.jpg"/>
          <p:cNvPicPr/>
          <p:nvPr/>
        </p:nvPicPr>
        <p:blipFill>
          <a:blip r:embed="rId2"/>
          <a:stretch/>
        </p:blipFill>
        <p:spPr>
          <a:xfrm rot="406200">
            <a:off x="4638600" y="2151000"/>
            <a:ext cx="400068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mk-MK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mk-MK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1" name="Picture 6" descr="meduza.jpg"/>
          <p:cNvPicPr/>
          <p:nvPr/>
        </p:nvPicPr>
        <p:blipFill>
          <a:blip r:embed="rId1"/>
          <a:stretch/>
        </p:blipFill>
        <p:spPr>
          <a:xfrm>
            <a:off x="4357800" y="500040"/>
            <a:ext cx="4286160" cy="30765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dzvezda.JPG"/>
          <p:cNvPicPr/>
          <p:nvPr/>
        </p:nvPicPr>
        <p:blipFill>
          <a:blip r:embed="rId2"/>
          <a:stretch/>
        </p:blipFill>
        <p:spPr>
          <a:xfrm rot="20467800">
            <a:off x="387360" y="774360"/>
            <a:ext cx="4203720" cy="30988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8" descr="zelka.jpg"/>
          <p:cNvPicPr/>
          <p:nvPr/>
        </p:nvPicPr>
        <p:blipFill>
          <a:blip r:embed="rId3"/>
          <a:stretch/>
        </p:blipFill>
        <p:spPr>
          <a:xfrm rot="21084600">
            <a:off x="428760" y="3499920"/>
            <a:ext cx="4000320" cy="28576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9" descr="riba.jpg"/>
          <p:cNvPicPr/>
          <p:nvPr/>
        </p:nvPicPr>
        <p:blipFill>
          <a:blip r:embed="rId4"/>
          <a:stretch/>
        </p:blipFill>
        <p:spPr>
          <a:xfrm rot="307200">
            <a:off x="4571640" y="3642840"/>
            <a:ext cx="3929040" cy="27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1" descr=""/>
          <p:cNvPicPr/>
          <p:nvPr/>
        </p:nvPicPr>
        <p:blipFill>
          <a:blip r:embed="rId2"/>
          <a:stretch/>
        </p:blipFill>
        <p:spPr>
          <a:xfrm>
            <a:off x="357120" y="285840"/>
            <a:ext cx="8102520" cy="437652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2"/>
          <p:cNvSpPr/>
          <p:nvPr/>
        </p:nvSpPr>
        <p:spPr>
          <a:xfrm>
            <a:off x="2419200" y="5361120"/>
            <a:ext cx="17352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RO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7" name="Picture 3" descr=""/>
          <p:cNvPicPr/>
          <p:nvPr/>
        </p:nvPicPr>
        <p:blipFill>
          <a:blip r:embed="rId3"/>
          <a:stretch/>
        </p:blipFill>
        <p:spPr>
          <a:xfrm>
            <a:off x="5765760" y="5221440"/>
            <a:ext cx="2519280" cy="138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49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61838175400491 0 L -0.645666576160739 0 E">
                                      <p:cBhvr>
                                        <p:cTn id="52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55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58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1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4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3" descr=""/>
          <p:cNvPicPr/>
          <p:nvPr/>
        </p:nvPicPr>
        <p:blipFill>
          <a:blip r:embed="rId1"/>
          <a:stretch/>
        </p:blipFill>
        <p:spPr>
          <a:xfrm>
            <a:off x="3708360" y="928800"/>
            <a:ext cx="4578480" cy="500040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5"/>
          <p:cNvSpPr/>
          <p:nvPr/>
        </p:nvSpPr>
        <p:spPr>
          <a:xfrm>
            <a:off x="0" y="2924280"/>
            <a:ext cx="4284720" cy="52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0f6fc6"/>
                </a:solidFill>
                <a:latin typeface="Times New Roman"/>
              </a:rPr>
              <a:t>CROCODIL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70" dur="2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18517512897096 0.078740157480315 L -0.567909313060005 0.078740157480315 E">
                                      <p:cBhvr>
                                        <p:cTn id="73" dur="2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000"/>
                            </p:stCondLst>
                            <p:childTnLst>
                              <p:par>
                                <p:cTn id="7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25644076057643 -0.0420997375328084 L -0.570239622231549 -0.0420997375328084 E">
                                      <p:cBhvr>
                                        <p:cTn id="76" dur="2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6000"/>
                            </p:stCondLst>
                            <p:childTnLst>
                              <p:par>
                                <p:cTn id="7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588031496062992 -0.186561679790026 E">
                                      <p:cBhvr>
                                        <p:cTn id="79" dur="1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7000"/>
                            </p:stCondLst>
                            <p:childTnLst>
                              <p:par>
                                <p:cTn id="8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82" dur="2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3" descr=""/>
          <p:cNvPicPr/>
          <p:nvPr/>
        </p:nvPicPr>
        <p:blipFill>
          <a:blip r:embed="rId1"/>
          <a:stretch/>
        </p:blipFill>
        <p:spPr>
          <a:xfrm>
            <a:off x="2625840" y="1071720"/>
            <a:ext cx="5661000" cy="478620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5"/>
          <p:cNvSpPr/>
          <p:nvPr/>
        </p:nvSpPr>
        <p:spPr>
          <a:xfrm>
            <a:off x="468360" y="1844640"/>
            <a:ext cx="50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0f6fc6"/>
                </a:solidFill>
                <a:latin typeface="Times New Roman"/>
              </a:rPr>
              <a:t>DUCK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523385826771654 0.294173228346457 E">
                                      <p:cBhvr>
                                        <p:cTn id="88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44330708661417 0.320419947506562 E">
                                      <p:cBhvr>
                                        <p:cTn id="91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95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mk-MK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0" y="1571760"/>
            <a:ext cx="9144000" cy="5286240"/>
          </a:xfrm>
          <a:prstGeom prst="rect">
            <a:avLst/>
          </a:prstGeom>
          <a:ln w="0">
            <a:noFill/>
          </a:ln>
        </p:spPr>
      </p:pic>
      <p:sp>
        <p:nvSpPr>
          <p:cNvPr id="244" name="WordArt 3"/>
          <p:cNvSpPr txBox="1"/>
          <p:nvPr/>
        </p:nvSpPr>
        <p:spPr>
          <a:xfrm>
            <a:off x="971640" y="5661000"/>
            <a:ext cx="1504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45" name="Rectangle 10"/>
          <p:cNvSpPr/>
          <p:nvPr/>
        </p:nvSpPr>
        <p:spPr>
          <a:xfrm>
            <a:off x="3419640" y="189000"/>
            <a:ext cx="218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-1" strike="noStrike">
                <a:solidFill>
                  <a:srgbClr val="dbf5f9"/>
                </a:solidFill>
                <a:latin typeface="Times New Roman"/>
              </a:rPr>
              <a:t>STORK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mk-MK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7" name="Picture 3" descr=""/>
          <p:cNvPicPr/>
          <p:nvPr/>
        </p:nvPicPr>
        <p:blipFill>
          <a:blip r:embed="rId1"/>
          <a:stretch/>
        </p:blipFill>
        <p:spPr>
          <a:xfrm>
            <a:off x="428760" y="1571760"/>
            <a:ext cx="8429400" cy="505764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"/>
          <p:cNvSpPr/>
          <p:nvPr/>
        </p:nvSpPr>
        <p:spPr>
          <a:xfrm>
            <a:off x="2160720" y="6024600"/>
            <a:ext cx="26794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2238480" y="404640"/>
            <a:ext cx="4668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-1" strike="noStrike">
                <a:solidFill>
                  <a:srgbClr val="e2d700"/>
                </a:solidFill>
                <a:latin typeface="Times New Roman"/>
              </a:rPr>
              <a:t>BAMBOO CAN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THINK AND ANSWER THE FOLLOWING QUESTIONS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Who lives in the water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Which animals live in the water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Which plants live in the water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How do aquatic animals move in their environment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9dd9"/>
                </a:solidFill>
                <a:latin typeface="Times New Roman"/>
              </a:rPr>
              <a:t>WHAT IS AN ENVIRONMENT?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3097080" cy="4418280"/>
          </a:xfrm>
          <a:prstGeom prst="rect">
            <a:avLst/>
          </a:prstGeom>
          <a:ln w="0">
            <a:noFill/>
          </a:ln>
        </p:spPr>
      </p:pic>
      <p:sp>
        <p:nvSpPr>
          <p:cNvPr id="206" name="AutoShape 5"/>
          <p:cNvSpPr/>
          <p:nvPr/>
        </p:nvSpPr>
        <p:spPr>
          <a:xfrm>
            <a:off x="3708360" y="1844640"/>
            <a:ext cx="4929120" cy="2071800"/>
          </a:xfrm>
          <a:prstGeom prst="cloudCallout">
            <a:avLst>
              <a:gd name="adj1" fmla="val -56634"/>
              <a:gd name="adj2" fmla="val 1206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mk-MK" sz="1800" spc="-1" strike="noStrike">
                <a:solidFill>
                  <a:srgbClr val="ffffff"/>
                </a:solidFill>
                <a:latin typeface="Arial"/>
              </a:rPr>
              <a:t>ЖИВОТНА  СРЕДИНА  Е        </a:t>
            </a:r>
            <a:r>
              <a:rPr b="0" lang="mk-M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mk-M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An environment is a place where there are conditions for life for the plants and the animal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9a956"/>
                </a:solidFill>
                <a:latin typeface="Constantia"/>
              </a:rPr>
              <a:t>LET’S THINK!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2d700"/>
                </a:solidFill>
                <a:latin typeface="Constantia"/>
              </a:rPr>
              <a:t>WHO LIVES IN THE WATER?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8" name="Picture 13" descr="question-mark.jpg"/>
          <p:cNvPicPr/>
          <p:nvPr/>
        </p:nvPicPr>
        <p:blipFill>
          <a:blip r:embed="rId1"/>
          <a:stretch/>
        </p:blipFill>
        <p:spPr>
          <a:xfrm rot="20863800">
            <a:off x="755280" y="980640"/>
            <a:ext cx="2303640" cy="21160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2" descr="kids.jpg"/>
          <p:cNvPicPr/>
          <p:nvPr/>
        </p:nvPicPr>
        <p:blipFill>
          <a:blip r:embed="rId2"/>
          <a:stretch/>
        </p:blipFill>
        <p:spPr>
          <a:xfrm rot="680400">
            <a:off x="5149800" y="937800"/>
            <a:ext cx="287172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Times New Roman"/>
              </a:rPr>
              <a:t>FLOWERS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179280" y="2133720"/>
            <a:ext cx="87854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Times New Roman"/>
              </a:rPr>
              <a:t>LOTUS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213" name="Picture 3" descr="lotos.jpg"/>
          <p:cNvPicPr/>
          <p:nvPr/>
        </p:nvPicPr>
        <p:blipFill>
          <a:blip r:embed="rId1"/>
          <a:stretch/>
        </p:blipFill>
        <p:spPr>
          <a:xfrm>
            <a:off x="179280" y="1935000"/>
            <a:ext cx="871380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Times New Roman"/>
              </a:rPr>
              <a:t>PLANTS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215" name="Picture 3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Times New Roman"/>
              </a:rPr>
              <a:t>PLANTS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ALGA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108000" y="1773360"/>
            <a:ext cx="89280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ALGA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egistered User</dc:creator>
  <dc:description/>
  <dc:language>en-US</dc:language>
  <cp:lastModifiedBy>Daniela</cp:lastModifiedBy>
  <dcterms:modified xsi:type="dcterms:W3CDTF">2011-12-14T20:49:57Z</dcterms:modified>
  <cp:revision>20</cp:revision>
  <dc:subject/>
  <dc:title>Slide 1</dc:title>
</cp:coreProperties>
</file>